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4540-BCB5-43C4-A708-A55682C09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AB81-FED7-4A26-BDBF-E981367A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0CEA-0E80-40CE-8107-9BB37196C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00B0-BBFA-4E9A-94B8-E587DACC7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ADD4-6137-422B-89C8-18D005EF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77A9-4BF5-456D-94CC-89B9C889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07DA-2D56-47C3-B60C-27816204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5978-0DF1-4B0D-B6BE-9DDE4532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C908-050A-4465-BCC6-BA02D1A0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A7E6-AD17-4D2A-AA60-388E2546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D1D4-B2BA-4D13-96EB-87B39ED8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BCDE-3458-40C9-B9CF-955F9554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1F8B-5927-4589-A51A-2DF3DDFA1A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ртреты М.Ю.Лермонт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4738680" cy="52117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5867280" y="1523880"/>
            <a:ext cx="228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. Ю. Лермонтов в сюртуке Тенгинского пехотного полка. Акварель К.А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бунова. (18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ний прижизненный портрет Лермонт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РТР́́ЕТЫ Лермонт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838080" y="636480"/>
            <a:ext cx="7543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нашего времени дошло 15 прижизненных изображений Л. Это немало, если принять во внимание трагич. судьбу поэта — две ссылки на Кавказ, участие в боевых походах и его раннюю гибель. Ни один портрет Л., взятый отдельно, не дает исчерпывающего представления о внешнем облике, о глубине и многогранности внутр. мира гениального поэта. Но в совокупности созданные проф. художниками высокой квалифик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Ф. О. Будкин, П. Е. Заболотский, А. И. Клюндер, К. А. Горбун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авторы осн. прижизненной иконографии Л. — все впоследствии стали академиками живописи) эти портреты все же дают конкретное представление о наружности 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5562720" cy="58975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6248520" y="914400"/>
            <a:ext cx="2438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рмонтов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-8 л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820-1822 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портрет Лермонтова, выполненны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известным художни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екоторые исследователи подлинность портрета ставят под сомн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4718160" cy="5288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943600" y="1905120"/>
            <a:ext cx="2971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описного или графического изображения Лермонтова М.Ю. в период его обучения в Москве нет. Большая часть портретов относится уже к последующему, петербургскому периоду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удожник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дкин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ен по заказу Е.А. Арсеньев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5070240" cy="61722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6095880" y="1143000"/>
            <a:ext cx="228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рмонтов в ментике лейб-гвардии Гусарского полка (1837 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мотря на то, чт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болот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 был профессиональным художником, портрет получился великолеп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5867280" cy="54453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6629400" y="1523880"/>
            <a:ext cx="198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портрет Лермонтова (1837 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ен самим поэтом на Кавказе. Портрет является одним из самых ценных для исследователей-лермонтове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4698720" cy="49831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5715000" y="213372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Лермонтова работ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И. Клюнде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838 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самый первый портрет Клюндера (бумага, акварель), хранится в Институте русской литер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57200" y="536400"/>
            <a:ext cx="5257800" cy="52056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6248520" y="2057400"/>
            <a:ext cx="2361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Лермонтова работ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Е. Заболотск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8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стично выполненный портрет. Картон, масло. Картина хранится в Институте русской литер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457200" y="880920"/>
            <a:ext cx="5562720" cy="52452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6172200" y="1447920"/>
            <a:ext cx="2514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Лермонтова работ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полчанина Д.П. Пале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8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динственный профильный портрет поэта. Исключительная ценность этой работы в том, что однополчанин возможно наиболее точно передал внешность Лермонт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каров</dc:creator>
  <dc:description/>
  <dc:language>en-US</dc:language>
  <cp:lastModifiedBy>Макаров</cp:lastModifiedBy>
  <dcterms:modified xsi:type="dcterms:W3CDTF">2012-12-03T05:08:0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